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9996-C0B8-405C-A649-86D9BF775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FE57-17B2-4B83-A08E-0AAFF7A50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44B9-AFBA-4EC2-B546-84608955F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61F7-3803-4DCC-A944-E3EF6545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7F91-4B2D-4072-BCF0-CE72236B1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35FA-DF7C-4CA7-BEC4-564DF6B1A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BEBC-661A-43F1-A444-4EF7B6908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3F2-9D86-4D88-93AE-A7FF8625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315-47A9-4F0B-964E-8653994D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5D295-C31B-49FE-9026-E6966EA8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BD2E2-6ADB-4CFB-A6FC-C7E84D6C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61070-E4BF-463A-9005-05C5CE9E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D81A8-DB12-449E-88B3-48D772E2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7F6F8-8F0A-4EE1-9222-FB8232C6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D06ED-D0D5-4FDD-B6CA-6B5B61AB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89A58-5357-457F-9B87-F35121A5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352AC-E761-47AE-8CA8-CC252B3E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7DEEB-A933-49BA-9A5C-B062A8CB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74355-AB91-4CD5-BBD7-EBC25AFD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561-F681-407F-8350-F29B74A5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B3972-1CF8-4DE2-9806-BF7BC5CD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5E3BA-B45B-4EE9-A2E7-9ACE9900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BB215-8A3E-43C8-9079-46BD5583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1226D-65EF-429F-90C6-A81F11FB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AADD5-4CF8-42DC-9193-E3AC030A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EEA87-E2D0-4BBC-9612-F65D985A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6016C-473C-4663-B5CD-FD05F11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1BD4B-63C5-427B-9481-DEE506C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EF156-8AD6-4503-84D8-8B32D34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4FF9A-9718-4D26-911B-B8E05BD5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8C4-8E9D-4F34-BB50-F3334A8B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8320A-A62A-4B54-9E45-FF139742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FDD58-C837-4715-9270-E3F3BA02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28C7A-C52F-462B-8D5C-1C5D9233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94219-0075-4FF3-93B7-8BF64A4A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17EF3-43EC-4581-9AFF-51E8B3B6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F48EC-A1E6-4D27-BB32-D4D4D9E4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06F9B-6D88-4A6B-911A-76314798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5183D-4538-419E-B14F-335FC583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92309-6607-4786-88A7-7003A59E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1C76E-89D7-4B92-99A6-108533ED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F782-F6B0-431D-BD61-832AD992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0AFF0-DC74-4FBD-9C63-F5386E92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D5795-2270-4B20-94A5-71C87D5E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091E0-BE39-4538-9D51-2A68B4F7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18CA6-5EDA-44CD-B25C-E0067AD6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FB5FE-B12D-4B9A-AC8E-C7DE3215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C8C65-1ACC-4AD3-BD2D-090CE8D1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65A91-56C7-4042-98FE-CA90A407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FA322-80F5-4B5F-954D-767FB98B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4EEB6-023E-4679-988D-87872BBE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8842F-A833-4926-B1B8-EFEFC3A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603E-F92C-41FE-BE72-C5FC514D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9F33C-9C28-4C97-9599-FBD42924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9456B-276D-4BC9-AE43-7493177C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AD7BF-A160-4E99-979F-2AC2156E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71347-6342-4048-A538-B85E55E0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23CF9-9881-411A-BAC5-36AF397C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7C069-4C74-4464-AA66-CECAF2E7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7505E-3E58-4D57-B641-BB72C43D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02F9C-D9BC-4BF7-B665-5D91690B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AA0E4-B869-4296-BBAC-E3654336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657A0-EF51-40B9-BCB2-EAA2A937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74B9-4338-47D5-9936-A26D5335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C996B-D1F0-47E3-A221-27726C46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FCB86-86CD-4184-9C90-645FD670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E5E0C-1570-4E5F-8F22-54B2A17B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9089C-8EFA-452B-87F4-6FBFA84F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B316A-9A5F-431F-BCA1-EF6DF603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13BFE-A9C6-438B-B17C-124B53E1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0F150-DAB6-44EF-A6FA-8146D956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3A59-21ED-4DDD-8AF9-E7D0F1D2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5674-9AB2-4976-9FA1-CABC7E15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D8F9-B41F-4804-A513-418D2E41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8FEE-C6C3-4633-A3B2-B3CC19CD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83D-A106-41D8-B395-15AA92B3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0AC6-4F20-4626-9BDF-90042E2C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E8ED-457A-4729-9EBD-15B426B1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29AA-34F0-4BA7-AB88-8F543862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7AF0-15C8-43B9-87FD-B7A6EF7F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977C-71BA-441E-932B-AC7AA8A9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6701-1BD6-453B-B90C-A65088F3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0AD8-F81D-4628-8419-3A45853F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B89B-9D81-43A9-AECB-C4D1BC8D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01FF-EE2D-4CAC-A372-DA1ADD53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7227-CF17-411D-A95E-474A04D8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ADB-17E3-4ABB-81B9-8C97FDEE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92DF-1974-4015-8D7A-EA4051EF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958B7-D2C3-4735-BB5B-DC313544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5E11-8DE5-429A-BC05-259CFC0A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0BA3D-455C-4C53-B6DD-F348CEDA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BE4FC-0B1F-4DBA-A80B-31C23C91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78EB-0272-48C4-9264-BB31F97D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B6A6E-F369-41A3-A823-E8C1708F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22C72-B713-4295-B044-D71E9803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37D5-AF7A-4B89-A0EB-AEFA0AD2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EC32F-3C49-498F-9764-C27E87E2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A2C-67B7-4652-BE9E-22A5068D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35F5-E6F6-422A-B73D-43AE5D3D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0150D-59EB-4802-80F5-8492F005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B6B1B-2C4F-4470-8812-3C513540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5955D-6990-49DA-9D27-ABFC2DBE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D2482-EDC7-4FEA-9711-68CC766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947A4-AC2E-4BDF-80F4-C04B5D03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A0ADA-D099-44A2-9838-D74ED385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9291-FFEC-4E4A-B5F9-4A8D1FFD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B6E5-F760-4FE2-98C8-EB94B023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56467-494E-4AE8-A0E6-500521B4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7ED-98B8-4BF7-9C63-D04410D2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0B002-BFDE-46AD-8588-08B4853D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BCA4-848E-4960-AD76-EDC1FBB4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2B168-531B-48BD-A93D-26A97D56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90949-8B86-444A-A5DA-36AEB6F2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04BDB-249A-4651-97A3-C4D0CBE3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75C6-3BF5-4EA2-9DFE-6BCCDE35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4BEA-FBE2-433B-9AF0-6AC9B4FC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A7C24-A73A-449D-9495-08E922F6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39A98-CBD5-42FF-8C76-3BBD1A7A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75850-4CBD-41F8-8F2E-21001B96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089-0200-4072-B28D-2F0E1E28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EF429-0E07-440F-9FEE-959A1758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501B8-7353-41E1-853A-DB594946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5EC2C-7347-4210-9C9E-0A35C67B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EA7A3-ACAF-4E94-85CC-776E7CD3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778FE-2FFB-4D6A-8D77-C431A3B5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5088D-3B69-417C-8078-D5974C69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F9153-3B47-4A25-BD9F-636782AD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CF8A3-3A3B-4533-841C-3C86FC91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4CA2A-DC38-45FB-937D-D7F8203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18D30-1112-455D-ACD8-5D8312DF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C16-1607-4146-8C25-601D484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02C59-69E3-4E35-8016-784B83B3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2FC3F-6472-4AA7-B1B4-F0A7FE5A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E79AC-1C0F-4582-827F-CACDE84E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B2EFF-D3C0-44C4-BE24-B4991267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3ACF7-8DCF-4CAF-9ECB-A63657D4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801E7-0920-40DC-A248-8168FF84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F4DE5-22BC-448C-88C7-CD37769D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2AD65-9F3B-412A-81C8-9DB71644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CF85E-C3DE-4C11-A9DC-9FB34B9D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7ED83-30D4-47E6-9869-9F9595F5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861-18AD-4521-925C-0C4CF55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16278-CDEE-447E-8FF6-780644E2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A2DF5-7756-4993-9357-EB6A3685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E8732-E1D2-45D4-9F21-050F2B5D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F5B67-10BB-4D64-B1D4-25D43514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93C8F-42E4-4C3F-B925-6B554197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AE398-E4A7-4FAD-9824-6E83FB7D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4EA07-C55A-45A9-831B-1BF579D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62FD9-0A2B-416C-9D3B-F3BE9F4B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9B8FE-F9BC-4BF9-8108-0207E845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498EF-1EF1-4DBD-A7B4-E919F122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9CD-D6C5-40A4-B988-C724783F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89556-2801-4B28-B3FD-10C80238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7F2DA-9B37-444D-B35E-116B4614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69A95-E083-4DD0-AA04-2155F566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42A54-7CA0-4C08-B119-AA94F63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40C66-5AAB-4E2E-AB2A-9D847AD3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8E160-9692-4FF2-BDE8-271D273C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BD67D-416D-456D-A81A-9DC9399D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C579E-5764-47FE-9484-723004DF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CA516-79AF-408B-BEFD-66BE9A91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A30F6-D6E3-4210-9562-68641087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D1D5-CB88-49CD-A795-8D1E4A2F8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8BD0-566C-4EF7-8FF9-4163AF655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405D-0B13-4E5C-8D5C-B820A72016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F0B5-6ABB-4178-86E0-26878F60C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FABD-B29F-4168-9578-3233D934C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839A-9785-4A82-8E6F-636B12F46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E48F-AEAB-4BF7-8D6E-59C9FCD4F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087E-5C47-4A2E-B66B-A68782900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3CCD-643B-48DE-8300-B3B57F208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7A08-66DD-416C-8FD5-E3B5A8BE0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2E28-C6AF-49F4-BE3B-BB2C83ED2B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507D-505C-4978-BDDC-E225603DCD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8204-7E42-42C4-8BC9-1A0947A03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772160" y="35053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Bits and Pee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Brain Sl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14" descr="H:\Documents and Settings\William S. Altman\Local Settings\Temporary Internet Files\Content.IE5\TWWBBE39\MP900385803[1].jpg"/>
          <p:cNvPicPr/>
          <p:nvPr/>
        </p:nvPicPr>
        <p:blipFill>
          <a:blip r:embed="rId1"/>
          <a:stretch/>
        </p:blipFill>
        <p:spPr>
          <a:xfrm>
            <a:off x="914400" y="1447920"/>
            <a:ext cx="3565440" cy="4992480"/>
          </a:xfrm>
          <a:prstGeom prst="rect">
            <a:avLst/>
          </a:prstGeom>
          <a:ln w="0">
            <a:noFill/>
          </a:ln>
        </p:spPr>
      </p:pic>
      <p:sp>
        <p:nvSpPr>
          <p:cNvPr id="543" name="Rounded Rectangle 2"/>
          <p:cNvSpPr/>
          <p:nvPr/>
        </p:nvSpPr>
        <p:spPr>
          <a:xfrm>
            <a:off x="6019920" y="4800600"/>
            <a:ext cx="2666880" cy="1752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ts begin by choosing a theme or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teral Dominance in Normal Bra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4114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mispheric 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f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2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ical 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2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guage 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gh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2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tial 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2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istic 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2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ical 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2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al recog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is some individual variability in the precise nature and degree of latera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ces should not be exagge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2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cause the corpus callosum allows the two hemispheres to work closely toge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2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ounded Rectangle 6"/>
          <p:cNvSpPr/>
          <p:nvPr/>
        </p:nvSpPr>
        <p:spPr>
          <a:xfrm>
            <a:off x="5105520" y="1600200"/>
            <a:ext cx="3429000" cy="29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know what to d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lit-Brain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n apparatus used for studying split-brain pati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presents image to selected visual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image shows up in the left visual fi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ticipant can name th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image shows up in the in right visual fi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ticipant cannot describe the object i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ticipant can pick the object out of a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ounded Rectangle 3"/>
          <p:cNvSpPr/>
          <p:nvPr/>
        </p:nvSpPr>
        <p:spPr>
          <a:xfrm>
            <a:off x="4038480" y="5257800"/>
            <a:ext cx="4953240" cy="1486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nd a video or image on the web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member to clean up the excessiv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ounded Rectangle 1"/>
          <p:cNvSpPr/>
          <p:nvPr/>
        </p:nvSpPr>
        <p:spPr>
          <a:xfrm>
            <a:off x="914400" y="2590920"/>
            <a:ext cx="7315200" cy="2057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7160" indent="-227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rase this button and create a menu for these slid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ke writing an abstract, this is actually the last thing we’ll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768320"/>
            <a:ext cx="9144000" cy="1508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arts of the Bra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jor Structures of the Hindbr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457200" y="1143000"/>
            <a:ext cx="80773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s the vital functions of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s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ulates hear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ulates brea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olv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s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olved in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us coeru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s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1"/>
          <p:cNvSpPr/>
          <p:nvPr/>
        </p:nvSpPr>
        <p:spPr>
          <a:xfrm>
            <a:off x="5029200" y="2514600"/>
            <a:ext cx="3824280" cy="3962520"/>
          </a:xfrm>
          <a:custGeom>
            <a:avLst/>
            <a:gdLst>
              <a:gd name="textAreaLeft" fmla="*/ 186480 w 3824280"/>
              <a:gd name="textAreaRight" fmla="*/ 3637800 w 3824280"/>
              <a:gd name="textAreaTop" fmla="*/ 186480 h 3962520"/>
              <a:gd name="textAreaBottom" fmla="*/ 3776040 h 3962520"/>
            </a:gdLst>
            <a:ahLst/>
            <a:rect l="textAreaLeft" t="textAreaTop" r="textAreaRight" b="textAreaBottom"/>
            <a:pathLst>
              <a:path w="21600" h="22381">
                <a:moveTo>
                  <a:pt x="3600" y="0"/>
                </a:moveTo>
                <a:arcTo wR="3600" hR="3600" stAng="16200000" swAng="-5400000"/>
                <a:lnTo>
                  <a:pt x="0" y="18781"/>
                </a:lnTo>
                <a:arcTo wR="3600" hR="3600" stAng="10800000" swAng="-5400000"/>
                <a:lnTo>
                  <a:pt x="18000" y="223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re’s way too much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t it to what you’d need in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may choose to put this information on a couple of slides, rather than just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n add a photo or some other visual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Structures of the Foreb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304920" y="1905120"/>
            <a:ext cx="8305560" cy="44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ral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es complex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rachiasmatic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 circadian rhy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atum &amp; substantia ni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 smooth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us callo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s left and right hemisph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l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ys and processes sensory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ounded Rectangle 3"/>
          <p:cNvSpPr/>
          <p:nvPr/>
        </p:nvSpPr>
        <p:spPr>
          <a:xfrm>
            <a:off x="5486400" y="1370160"/>
            <a:ext cx="3519360" cy="29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other overfull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t it as needed or break it across a couple of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n add a photo or some other visual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jor Structures of the Forebrai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Limbic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0" y="1523880"/>
            <a:ext cx="525780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olved in e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 of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fected by Alzheimer’s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ulates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r su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ounded Rectangle 3"/>
          <p:cNvSpPr/>
          <p:nvPr/>
        </p:nvSpPr>
        <p:spPr>
          <a:xfrm>
            <a:off x="5105520" y="1600200"/>
            <a:ext cx="3429000" cy="29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know what to do with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rhaps it might be nice to find a video to go with one of th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tomical Area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 the Cerebral Cort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228600" y="1676520"/>
            <a:ext cx="4952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emisphere is into four lo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i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i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yri (rid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lci (valle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4"/>
          <p:cNvSpPr/>
          <p:nvPr/>
        </p:nvSpPr>
        <p:spPr>
          <a:xfrm>
            <a:off x="4952880" y="2362320"/>
            <a:ext cx="3824280" cy="4190760"/>
          </a:xfrm>
          <a:custGeom>
            <a:avLst/>
            <a:gdLst>
              <a:gd name="textAreaLeft" fmla="*/ 186480 w 3824280"/>
              <a:gd name="textAreaRight" fmla="*/ 3637800 w 3824280"/>
              <a:gd name="textAreaTop" fmla="*/ 186480 h 4190760"/>
              <a:gd name="textAreaBottom" fmla="*/ 4004280 h 4190760"/>
            </a:gdLst>
            <a:ahLst/>
            <a:rect l="textAreaLeft" t="textAreaTop" r="textAreaRight" b="textAreaBottom"/>
            <a:pathLst>
              <a:path w="21600" h="23670">
                <a:moveTo>
                  <a:pt x="3600" y="0"/>
                </a:moveTo>
                <a:arcTo wR="3600" hR="3600" stAng="16200000" swAng="-5400000"/>
                <a:lnTo>
                  <a:pt x="0" y="20070"/>
                </a:lnTo>
                <a:arcTo wR="3600" hR="3600" stAng="10800000" swAng="-5400000"/>
                <a:lnTo>
                  <a:pt x="18000" y="236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picture of the brain might be really nic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You might even animate an arrow to the various areas when they appear, if you animate 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r perhaps a video of someone looking at a brain and pointing out this stu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might even think about shooting your own videos for some of your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991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unctional Areas of the Cerebral Cort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304920" y="1371600"/>
            <a:ext cx="464796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s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y 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s sensor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rate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nicke’s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guage 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ca’s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guag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ech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ounded Rectangle 4"/>
          <p:cNvSpPr/>
          <p:nvPr/>
        </p:nvSpPr>
        <p:spPr>
          <a:xfrm>
            <a:off x="5105520" y="1600200"/>
            <a:ext cx="3429000" cy="29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know what to d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tor &amp; Somatosensory Cort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304920" y="1447920"/>
            <a:ext cx="48765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s parts of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controlling movement of neighboring parts of the body occupy neighboring parts of the motor cort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atosensory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s sensory input from body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receiving input from neighboring body parts are near one another in the sensory cort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ounded Rectangle 3"/>
          <p:cNvSpPr/>
          <p:nvPr/>
        </p:nvSpPr>
        <p:spPr>
          <a:xfrm>
            <a:off x="5486400" y="1600200"/>
            <a:ext cx="3048120" cy="297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know 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7:28:42Z</dcterms:created>
  <dc:creator>Bill Altman</dc:creator>
  <dc:description/>
  <dc:language>en-US</dc:language>
  <cp:lastModifiedBy>William S. Altman</cp:lastModifiedBy>
  <dcterms:modified xsi:type="dcterms:W3CDTF">2011-12-25T19:00:21Z</dcterms:modified>
  <cp:revision>243</cp:revision>
  <dc:subject/>
  <dc:title>Chapter 3</dc:title>
</cp:coreProperties>
</file>